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png" ContentType="image/png"/>
  <Override PartName="/ppt/media/image28.jpeg" ContentType="image/jpeg"/>
  <Override PartName="/ppt/media/image23.wmf" ContentType="image/x-wmf"/>
  <Override PartName="/ppt/media/image20.png" ContentType="image/png"/>
  <Override PartName="/ppt/media/image36.jpeg" ContentType="image/jpeg"/>
  <Override PartName="/ppt/media/image21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35.png" ContentType="image/png"/>
  <Override PartName="/ppt/media/image7.gif" ContentType="image/gif"/>
  <Override PartName="/ppt/media/image37.gif" ContentType="image/gif"/>
  <Override PartName="/ppt/media/image10.jpeg" ContentType="image/jpeg"/>
  <Override PartName="/ppt/media/image8.jpeg" ContentType="image/jpeg"/>
  <Override PartName="/ppt/media/image30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34.jpeg" ContentType="image/jpeg"/>
  <Override PartName="/ppt/media/image12.jpeg" ContentType="image/jpeg"/>
  <Override PartName="/ppt/media/image11.gif" ContentType="image/gif"/>
  <Override PartName="/ppt/media/image2.png" ContentType="image/png"/>
  <Override PartName="/ppt/media/image25.jpeg" ContentType="image/jpeg"/>
  <Override PartName="/ppt/media/image32.png" ContentType="image/png"/>
  <Override PartName="/ppt/media/image3.gif" ContentType="image/gif"/>
  <Override PartName="/ppt/media/image29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5.wmf" ContentType="image/x-wmf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70289-95F9-42B8-AF70-BF07E520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9D8ED-A672-4C87-897D-8602710C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6DD34-F0F1-4399-9740-0120C3F7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16A74-8E68-4CDC-BC7A-B25937EC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F579-E637-4858-A709-B1EAB01D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351C-4CCC-4E5D-97B2-6FA0F3A5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6E7B-817E-41DA-9C15-702EAF88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CB02-8DEE-4E88-BA82-5AAE738E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3D00-9C0A-47B9-9E0C-4A6AAB4B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9B4D-0AE5-40D8-A16F-CE6DD6C6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69ED-2C10-4F52-A702-1E4D160C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E2F11-5E56-43F3-BA63-833546EE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53BD-E994-4E63-ADD2-8DA9DB0B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6DD2-A96E-4F8F-8DA6-FB4F69AF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68EA-F6F3-4E5D-B574-260A4300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3546-2A99-4701-9659-91A5B90E0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33AD-BDB3-43B6-89B5-91337D13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A3A90-7E97-428C-9C1A-5C6FD346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242AF-3552-44A8-97E9-9E2CDCB7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019DD-CD3D-43DC-8147-E6560F9D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D50E9-2B21-4E2F-B918-BE53A65C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433E0-2AEA-42B7-9E89-BDE943DD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80381-B445-4209-B62F-562CD3D7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264DF-8C6E-4A6D-B0B7-58C7117D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820D-C77E-48E9-B025-4F4BD484143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A7BF-BDDE-4922-8FAD-D3B4F8D1C87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PRINT"/>
              </a:rPr>
              <a:t>Power Source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RINT"/>
              </a:rPr>
              <a:t>By: Serenity Y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SPRINT"/>
              </a:rPr>
              <a:t>Renewabl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708360" y="1599840"/>
            <a:ext cx="266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S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RINT"/>
              </a:rPr>
              <a:t>Wi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S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RINT"/>
              </a:rPr>
              <a:t>So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S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RINT"/>
              </a:rPr>
              <a:t>Tid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S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RINT"/>
              </a:rPr>
              <a:t>Hy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SPRINT"/>
              </a:rPr>
              <a:t>Win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067280" y="1557360"/>
            <a:ext cx="4825800" cy="4608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311640" cy="2158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39640" y="3941640"/>
            <a:ext cx="324036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SPRINT"/>
              </a:rPr>
              <a:t>Sola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24360" y="1628640"/>
            <a:ext cx="5040360" cy="4464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95280" y="1600200"/>
            <a:ext cx="3313080" cy="2189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95280" y="4121280"/>
            <a:ext cx="33130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08000" y="1268280"/>
            <a:ext cx="4392720" cy="4753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686480" y="1268280"/>
            <a:ext cx="44575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SPRINT"/>
              </a:rPr>
              <a:t>Tida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2951280" cy="2189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2951280" cy="2232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635280" y="1628640"/>
            <a:ext cx="5400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8360" y="339840"/>
            <a:ext cx="820728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SPRINT"/>
              </a:rPr>
              <a:t>Hydr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5280" y="1600200"/>
            <a:ext cx="3960720" cy="2189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500720" y="1628640"/>
            <a:ext cx="4464000" cy="4824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95280" y="3941640"/>
            <a:ext cx="396072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11280" y="2133720"/>
            <a:ext cx="79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RINT"/>
              </a:rPr>
              <a:t>These are more eco friendly… but they do cost a lot to install, set up and re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SPRINT"/>
              </a:rPr>
              <a:t>Non-Renewabl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19640" y="2133360"/>
            <a:ext cx="2520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S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RINT"/>
              </a:rPr>
              <a:t>Nucl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S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RINT"/>
              </a:rPr>
              <a:t>Co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S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RINT"/>
              </a:rPr>
              <a:t>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555480"/>
            <a:ext cx="8351640" cy="56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137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79912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2133720"/>
            <a:ext cx="77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RINT"/>
              </a:rPr>
              <a:t>The power that is made in all these different types of power plants then makes its way through the power lines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9930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619280" y="220500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RINT"/>
              </a:rPr>
              <a:t>And to your houses or apartment building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176720" cy="4608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572000" y="1197000"/>
            <a:ext cx="4392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692360" y="285264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RINT"/>
              </a:rPr>
              <a:t>And makes this happe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SPRINT"/>
              </a:rPr>
              <a:t>Nuclea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3941640"/>
            <a:ext cx="3311640" cy="2189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995640" y="1557360"/>
            <a:ext cx="4969080" cy="4608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68360" y="1484280"/>
            <a:ext cx="3311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9640" y="620640"/>
            <a:ext cx="655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RINT"/>
              </a:rPr>
              <a:t>I think we should all consider becoming more eco friendly it doesn’t have to be big but even in the small things we 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924360" y="3789360"/>
            <a:ext cx="3384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7752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SPRINT"/>
              </a:rPr>
              <a:t>Coa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3382920" cy="2189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067280" y="1628640"/>
            <a:ext cx="4825800" cy="4464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39640" y="4076640"/>
            <a:ext cx="33116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2120" y="722160"/>
            <a:ext cx="76197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SPRINT"/>
              </a:rPr>
              <a:t>Oi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537080" cy="4464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1600200"/>
            <a:ext cx="3598920" cy="2189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68360" y="4005360"/>
            <a:ext cx="3598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84360" y="277920"/>
            <a:ext cx="7559640" cy="60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SPRINT"/>
              </a:rPr>
              <a:t>These are all good sources for energy…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SPRINT"/>
              </a:rPr>
              <a:t>But they tend to leave behind a lot of pollution and unwanted side affects…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4:52:01Z</dcterms:created>
  <dc:creator>HWDSB</dc:creator>
  <dc:description/>
  <dc:language>en-US</dc:language>
  <cp:lastModifiedBy>HWDSB</cp:lastModifiedBy>
  <dcterms:modified xsi:type="dcterms:W3CDTF">2011-01-18T15:01:35Z</dcterms:modified>
  <cp:revision>5</cp:revision>
  <dc:subject/>
  <dc:title>Power Sources</dc:title>
</cp:coreProperties>
</file>